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B39-E52D-4645-8714-EECE9EE6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7FF-90BC-427F-9D87-D903051B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037-0B80-4455-BD16-FCAD58D8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2F3-D1B6-4A6F-A9F5-14FAB8FB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1F0-6056-4D8F-81AC-AF5AF75C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2D9-888B-4512-B410-E13065BE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6134-9280-4DEF-AE96-4A8B7794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7019-BF4B-4809-86F5-3DAA9C2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8439-2310-48B5-889E-E640C0C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999A-5627-4A52-865F-995FAFDB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4CE-40CD-4D88-9090-40E4160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086-A517-46F3-8BC0-18F38932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AF80-CAD9-4682-A4F0-EC7CAD9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55DD-EFEE-41A9-8C27-11EF37E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39CF-A14A-41A4-A321-8438B86C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9B03-244F-4594-BED5-5186B5BE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7096-0E47-469A-82D9-3C73018D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C851-2E54-4115-8D78-37ACEC55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9EA7-0A06-4785-B864-E87F3274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76F8-A064-4E77-97CF-35E94BA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9761-B3D1-4EE6-9D5D-57AC253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42D9-2F94-44A0-A5F3-CCC578F8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908-C697-46B7-B1FB-51EC819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93A5-7833-444C-AEDC-EC7D6DEC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BD97-A0BD-4E10-B66F-8D6B126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304B-CBEF-4961-BFFF-37A57CC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D2D0-3150-4C6F-846B-D69D4D0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0935-9429-4C66-A31C-4DC51D77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8071-11F1-45CB-BAFE-BE91B28F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A05B-0051-42CE-B2E5-C1C628AC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1755-9EC5-4AFF-932A-B4350174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E87B-DD48-4EBB-8B7C-E00725C5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9DEF-5945-412C-9800-94836BB3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0EE-3464-4284-914C-036E7E41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5636-A47E-4B9D-950E-084A0D23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EBF9-CA3A-4063-8600-984669A1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70D3-06EA-4DC3-AEC7-1333446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82D6-FAD3-455D-9909-51754A68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E406-27B5-4B2A-93D0-58D273D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45739-3099-42DB-9FD8-EB5E538D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6C74-BC96-43CD-9E72-54129E5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C34B-8945-4628-8A86-9856AA01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40FF-7D87-41A7-86FF-76B60D5B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54D-402D-4E31-9043-67C9CA84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26B-2FDC-4991-9B4D-71345C8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45A-CC97-4DD0-90EB-0764BE4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9F9-F51D-4E55-B3C6-885E2E6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6E4-4ED3-4372-BFBE-697B20B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09F4-6401-4113-B9F1-AF3EC37B369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BB05-128D-4F39-A5EA-2B7DC2ADD91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4A4B-52D4-4EA8-9BC0-D1393F20AE3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5C24-14C2-4733-8F59-FE47C6586B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9680" y="1255680"/>
            <a:ext cx="8845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еклянный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евнейшие — им около 5 тыс. лет — изделия из стекла найдены в Египте. Уже тогда из этого материала делали не только украшения, но и чаши, кубки, фигурки людей и животных. Все стеклянные вещицы были довольно мелкими, поскольку в больших формах стекло не успевало пропекаться. Позже центрами стеклоделия стали торговые города Финикии. Их оборотистые жители с выгодой обменивали стеклянные бусы и флаконы на золот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рубеже нашей эры то ли в Египте, то ли в Греции был открыт метод выдувания стекла. Благодаря простой металлической трубке стеклянные изделия можно было делать крупнее и качественнее. Процветало стекольное дело и в Древнем Риме. В домах римских патрициев впервые появились стеклянные окна — диковина, которой хозяева гордились. После падения Рима стекольной столицей стал Константинополь. Там начали изготавливать смальту — цветное непрозрачное стекло для витражей, украшавших готические соборы Европ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екл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— неорганическое изотропное вещество, материал, известный и используемый с древнейших времён. Существует и в природной форме, в виде минералов (обсидиан — вулканическое стекло), но в практике — чаще всего, как продукт стеклоделия — одной из древнейших технологий в материальной культуре. Структурно — аморфное вещество, агрегатно относящееся к разряду — твёрдое те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еклянные ткан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легко было ученым и инженерам отыскать такую толщину стеклянной нити, из которой можно было делать ткани. В частности, чем тоньше требовалась стеклянная нить, тем труднее было ее получать. В конце концов опытным путем установлено, что стеклянная нить толщиной в 5—6 микронов обладает всеми свойствами текстильного волокна; из нее можно ткать стеклянное полотно. Но нить толщиной в 5—б микронов в десять раз тоньше человеческого, волоса, она невидима простым глазом, ее можно наблюдать лишь в микроскоп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5:20:54Z</dcterms:created>
  <dc:creator>Павел</dc:creator>
  <dc:description/>
  <dc:language>en-US</dc:language>
  <cp:lastModifiedBy>Павел</cp:lastModifiedBy>
  <dcterms:modified xsi:type="dcterms:W3CDTF">2010-06-09T10:24:19Z</dcterms:modified>
  <cp:revision>2</cp:revision>
  <dc:subject/>
  <dc:title>Незаметный стеклянный мир</dc:title>
</cp:coreProperties>
</file>